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0CF2-B501-40A8-8AD8-A6ECB7EAA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A1AA-F039-4AE9-96BC-E22AC78009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three analysts p.18 (Drummon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re are different perspectives it is useful to view costs and consequences as building blocks, which can be assembled in the different eval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7B92-EC93-4DF1-AE32-C902A7CE74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DA0F-CAFB-402B-94C3-1CA4B07027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 * relevant Unit p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0E4F-41F0-46AA-B260-0AEBC4BDBB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8A58-20A3-4AA0-8245-3AB1A2AB6B2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0077-A80E-419C-A3B9-C4F9D6AA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658-0C01-43D6-BBB8-A9D2EAF1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0B9-7054-49DA-A18F-C10C3E5C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CDA-A768-4D0C-81B8-D4B7C7E7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EC3-2BAE-4550-8295-9DE6E935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1723-2FEA-493C-AC8A-BCE729C5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9B0-0263-4F4C-87D5-C6034F01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BE0D-269D-4941-AA0B-8AAF5E42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996-91F1-42B5-9DE8-AD7D4290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8FFE-80F8-4370-A4F4-B42E7B1B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11F3-E80D-4589-813D-B42AC748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639C-BD4C-4384-9695-29CDE0E6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9C02-A920-481C-849C-AB525DF0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3C56-6CBA-46D7-90D2-29D837F9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1229-71BA-4F93-A96F-4754BF15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061E-9D67-4BD2-90F5-EA9E46CF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D434-078A-4937-9E22-3DEB109B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AA67-6856-440E-8DD1-03118477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C03-B70B-42F3-8BCE-19D13106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7FD1-31CB-4B93-8F1D-B99D528A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1717-2B0A-4C7C-92C5-FEDEC473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8C02-D697-4ACD-80BC-447D1F68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F3AA-F2D4-435C-AF2C-F92E5E41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910-3A1C-45B9-AA5D-BFEE017B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8687-0445-4FAD-A867-0F8EB3E758F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3A43-2F0A-4019-9D30-EF2574A6B5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A0AE-6E77-4932-AB08-2A441A2BB5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-Benefit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28600" y="2666520"/>
            <a:ext cx="8763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4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Object 2"/>
          <p:cNvGraphicFramePr/>
          <p:nvPr/>
        </p:nvGraphicFramePr>
        <p:xfrm>
          <a:off x="0" y="1600200"/>
          <a:ext cx="9144000" cy="36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 6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2693880" y="0"/>
          <a:ext cx="4237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3880" y="0"/>
                    <a:ext cx="4237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-19080" y="12600"/>
            <a:ext cx="9010800" cy="13399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depends 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blem tackl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itutional fra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actical measurement challeng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erspective the analyst takes on the role of the economic evalu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7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0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1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74040" cy="1341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HO-CHOICE and GCE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55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eague Tab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295280" y="1143000"/>
          <a:ext cx="6477120" cy="5257800"/>
        </p:xfrm>
        <a:graphic>
          <a:graphicData uri="http://schemas.openxmlformats.org/drawingml/2006/table">
            <a:tbl>
              <a:tblPr/>
              <a:tblGrid>
                <a:gridCol w="2692440"/>
                <a:gridCol w="378468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rat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      c2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      b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2      c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1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3      c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0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5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      a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3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</a:tbl>
          </a:graphicData>
        </a:graphic>
      </p:graphicFrame>
      <p:sp>
        <p:nvSpPr>
          <p:cNvPr id="288" name="Rectangle 3"/>
          <p:cNvSpPr/>
          <p:nvPr/>
        </p:nvSpPr>
        <p:spPr>
          <a:xfrm>
            <a:off x="838080" y="990720"/>
            <a:ext cx="7315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6"/>
          <p:cNvSpPr/>
          <p:nvPr/>
        </p:nvSpPr>
        <p:spPr>
          <a:xfrm>
            <a:off x="1905120" y="3200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7"/>
          <p:cNvSpPr/>
          <p:nvPr/>
        </p:nvSpPr>
        <p:spPr>
          <a:xfrm>
            <a:off x="1905120" y="3809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8"/>
          <p:cNvSpPr/>
          <p:nvPr/>
        </p:nvSpPr>
        <p:spPr>
          <a:xfrm>
            <a:off x="1905120" y="4343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9"/>
          <p:cNvSpPr/>
          <p:nvPr/>
        </p:nvSpPr>
        <p:spPr>
          <a:xfrm>
            <a:off x="1905120" y="4952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40"/>
          <p:cNvSpPr/>
          <p:nvPr/>
        </p:nvSpPr>
        <p:spPr>
          <a:xfrm>
            <a:off x="1905120" y="6095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go to know mor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3807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Journals With an EE Focu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uropean 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st Effectiveness and Resource Allocation (online journa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im J, Leung G, Woo P, and Goldie S (2004).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Cost-effectiveness of organized versus opportunistic cervical cytology screening in Hong Kong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. Journal of Public Health, 26(2):130–137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vidence on the cost-effectiveness of alternative cervical cancer screening strateg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109440" y="195120"/>
            <a:ext cx="8577360" cy="1219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al perspec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CE4D-BA20-48F2-87EE-CD4A9BBD36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369360" cy="1224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109440" y="231840"/>
            <a:ext cx="8577360" cy="1218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quid-based cytology dominates conventional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shold from the US: $100 000 per YLS is quite comm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HK no clear threshold bu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5 000/YLS, the optimal screening frequency with liquid-based cytology would be every 3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0 000 per YLS, the optimal screening frequency would be every 4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use of constant dollar value (US$ 2000), to deflate all the cos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ture costs and life years were discounted at an annual rate of 3 per c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46160" y="281160"/>
            <a:ext cx="8839080" cy="12128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nsitivity and specificity of screening strateg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per age limit: no upper age limit, 55 and 65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23270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more worthwhile to implement an organized rather than opportunistic strategy for the screening of cervical cancer, using liquid-based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onomic evaluation is the comparison of costs and consequences to determine the most efficient allocation of scarce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everal challenges: methodological issu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conomic evaluation will be increasingly used, especially in times of limited public health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4" descr=""/>
          <p:cNvPicPr/>
          <p:nvPr/>
        </p:nvPicPr>
        <p:blipFill>
          <a:blip r:embed="rId1"/>
          <a:stretch/>
        </p:blipFill>
        <p:spPr>
          <a:xfrm>
            <a:off x="-115920" y="171360"/>
            <a:ext cx="903456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Object 2"/>
          <p:cNvGraphicFramePr/>
          <p:nvPr/>
        </p:nvGraphicFramePr>
        <p:xfrm>
          <a:off x="609480" y="1371600"/>
          <a:ext cx="7925040" cy="49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371600"/>
                    <a:ext cx="7925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Object 2"/>
          <p:cNvGraphicFramePr/>
          <p:nvPr/>
        </p:nvGraphicFramePr>
        <p:xfrm>
          <a:off x="609480" y="928800"/>
          <a:ext cx="8001000" cy="55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28800"/>
                    <a:ext cx="800100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A/CUA useful to allocate a fixed budget to maximize a selected effectiveness mea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o so we ne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and comparable data on all alternat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periodic budget allocation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difference from CEA/CU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A/CUA gives the price to achieve an incremental goal, but not whether a goal is worth achieving. Hence, invoke some external criterion of value: League tables and thresholds (arbitrar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maker implicitly or explicitly do the monetary 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455040" cy="1224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ce both do involve monetary valuations, are they equivale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ilosophical difference: ‘decision-making philosophy versus welfare economics and consumer sovereignt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BA has a broader scope: transportation and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roduction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allocative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ess utility’, ‘reassurance value’ and non-health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A/CUA are client-focused (patients), not possible to directly include externali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e approach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uman capital approac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eal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8T08:16:56Z</dcterms:modified>
  <cp:revision>557</cp:revision>
  <dc:subject/>
  <dc:title>Slide 1</dc:title>
</cp:coreProperties>
</file>